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8E0371-5496-488F-B3FD-E3DD4E753A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1A577C-9DFA-4768-9B76-E9C3BD2F87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B9A98F-B465-46AD-AD16-B3E7A4393F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37A357-3A15-4F79-8C75-6461B59F9B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949190-DCB0-4285-9D51-86322C3805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AE37B0-C7F3-4B76-9CFE-E2D66385EB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59A024-BFA2-4E90-B4AB-A2349ADF30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3123ED-AD67-4752-9F29-AF6E160EF5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ADE98A-7145-4749-B60B-020DFD4F42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F4CC7B-B8E4-476B-B9FB-5BFA00E796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5C0530-B891-42B9-8BE0-D599881438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0F63AF-BF1D-4EF4-86D8-2830B9F87B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0B0C65-4752-4732-BA75-319B47E4BB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55A6BE-5872-463B-9235-E3A0A4971F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8E75DF-03ED-4246-8587-0F85C5BDA6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AAA253-B78D-441B-A33E-9545060B7E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F50528-D521-4AA1-9AB7-58DD54F93D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3FB93BE9-AF6F-4ADB-85CC-AC3938938D9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04B2F57-7AA2-42BE-BCDB-BC9E90D373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18C0C2A-3904-4756-9E86-76A96500C0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28622CB-07C6-4627-866B-40E93C06D6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51017E0-638C-41F2-BF72-0A2E26EC42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A0DFA1-29A7-4682-BCA7-49C6D2BF92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649C734-A572-4C8E-8358-A9A294858F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0B29B88-13D2-43D4-994D-4269A361FA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E36AE75-0A3E-459B-BB87-90574BAD9C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378D15C-E3A7-453D-9727-FF87C32EF6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8518C11-C942-457C-AA89-AEADAE0570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7A6C4195-67B0-4E1B-9187-40AEF6A9599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4278C38E-B325-4609-81E9-76CAA1EE6B4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20E82A7-B460-4FD7-947F-6C2F0A1F4B3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1B4A65-CAFF-443A-83EF-A676AB93B5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04418C-CB08-446A-9006-017DF0DBCD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E36389-1E1F-46F1-A81C-897BFC4AEF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DC4072-ECE1-42B6-B552-02390F4F87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E28A1F-B2D1-4D6D-88CF-10975152D7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DFF2B3-C350-4F84-AEE3-1B2882D833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18D413-6395-44AC-B88F-7833A3C40D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C4D6DB-4C12-415C-8838-7832D1B422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1D3644-AD87-4E52-99F5-361EFE55D8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666C8E-E63A-4F58-8998-48E30F464E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BC72EF4-C70C-4C24-B1F0-C4577B97BF8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4A40345-D6CB-45A4-A586-5D4FF519F57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15967583-154C-435D-97F7-FF0A750B361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FF7CA8-5D31-49CA-8054-B60F1F13E5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4370E23-39E9-4FC6-80F9-C8DD189397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A012B41-0B3E-478F-A7AA-3C7D2D0882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88C4651-E681-4AB8-8BAC-E7298A6CE2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4712CEE-2753-4917-856E-A4C42785B0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409FB5E-C9E5-4108-9F9C-E957F212A5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3F9532E-7E78-4B6A-8720-514B6486B5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E373733-B5BE-471F-A3A2-65E5796D50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1177C0A-85D0-4F8E-AD63-057A5B6639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629211D-E4C8-47B0-8B37-F2328BA65E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92197C2D-212C-4A4A-A67D-8A6B9E83F30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850028-4353-443A-A76A-3C001B21A7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5BAE5FD5-B817-4F30-936E-6C26A50EE8A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E2E494D9-5D73-4E73-8889-58485E4D2A4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44718607-1BED-4525-8450-C3E01B650D3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8B0E82AC-B905-4CB1-ABE2-D37C2763D1A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0B213A1B-93CF-4363-8FEA-B2B54E62BD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080B653A-718A-49D3-8A60-D41B2512589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725F7C4D-A744-4ED9-93C3-D9BDA60D741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E3D778E-3976-4928-A5DE-D8F4F4F64E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4A2DBEA-8DCF-4CAE-A599-7F349D9065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F3E4024E-18B9-4766-BF28-D0F218E703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B0734E-BBE2-4902-B418-8EC38E6DE7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0E76DBC3-1920-4ACC-8250-024C66BFE93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E7652340-A4A4-48C5-8F14-E005184156F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4E2094C4-B0DB-4B5C-8897-C51D1F96C82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81975D8F-49A0-4110-BDE8-051F529A757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F692B7D9-9B31-44F5-B7CC-4F2EFCD28F5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60F88001-665A-42A6-9FB7-2A064305E3A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228C3E9F-A405-46ED-AEB1-F97924BFB0C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7CD661DA-0292-408F-B73E-12EFF58A7DC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BA69CF8C-E3F6-4478-A5C8-19D2814B038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E474121-5A3B-40C2-9F2D-FB92E5DF35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764DE0-754C-46B1-BDCB-257C738673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1069E07-C97E-4A43-9778-E08768BBD4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FCB13C9-3165-4362-AAF2-3E9C965038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A2938423-3846-4E8B-B63D-394EC563FCF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48093972-BEAF-4C14-AEBB-BF5B2AEE1A5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69B59515-8AC0-4C09-96C2-535157EE56F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014BF-49B2-42E7-BE52-6899995835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C9AACE-4AD0-4128-BB8F-7691D3DD080D}" type="datetime">
              <a:rPr b="0" lang="en-US" sz="1200" spc="-1" strike="noStrike">
                <a:solidFill>
                  <a:srgbClr val="575f6d"/>
                </a:solidFill>
                <a:latin typeface="Times New Roman"/>
              </a:rPr>
              <a:t>07/30/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1AECD2-91E6-42F0-A037-D5AA632810F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9"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0"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1"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8"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0"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1"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2"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B98DA6-818D-46E5-AD4C-FC8BA8B1D759}" type="datetime">
              <a:rPr b="0" lang="en-US" sz="1200" spc="-1" strike="noStrike">
                <a:solidFill>
                  <a:srgbClr val="575f6d"/>
                </a:solidFill>
                <a:latin typeface="Times New Roman"/>
              </a:rPr>
              <a:t>07/30/26</a:t>
            </a:fld>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0FED13-98F5-422F-B19D-6D0400E5122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2D375B-0E2A-47D4-AB13-F334E70BB173}" type="datetime">
              <a:rPr b="0" lang="en-US" sz="1200" spc="-1" strike="noStrike">
                <a:solidFill>
                  <a:srgbClr val="575f6d"/>
                </a:solidFill>
                <a:latin typeface="Times New Roman"/>
              </a:rPr>
              <a:t>07/30/26</a:t>
            </a:fld>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F08D82-03A9-4B65-A35B-CF06A38CDD5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2"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3"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4"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5"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7"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8"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9"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0"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1"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2"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3"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4"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5"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6"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39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CBAE66-E498-4E3A-BE88-1C427999D01E}" type="datetime">
              <a:rPr b="0" lang="en-US" sz="1200" spc="-1" strike="noStrike">
                <a:solidFill>
                  <a:srgbClr val="fff39d"/>
                </a:solidFill>
                <a:latin typeface="Times New Roman"/>
              </a:rPr>
              <a:t>07/30/26</a:t>
            </a:fld>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5D1EF8-5D6D-4260-A619-D9C9F3AECB7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A8C543-1EE2-4A59-8350-B969CFF7B0FD}" type="datetime">
              <a:rPr b="0" lang="en-US" sz="1200" spc="-1" strike="noStrike">
                <a:solidFill>
                  <a:srgbClr val="575f6d"/>
                </a:solidFill>
                <a:latin typeface="Times New Roman"/>
              </a:rPr>
              <a:t>07/30/26</a:t>
            </a:fld>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6C0E5A-18EE-40B6-8EDD-1A8E3748A98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6"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7"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8"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9"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0"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1"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11075A-4E9F-492A-894D-BB1E6654B518}" type="datetime">
              <a:rPr b="0" lang="en-US" sz="1200" spc="-1" strike="noStrike">
                <a:solidFill>
                  <a:srgbClr val="575f6d"/>
                </a:solidFill>
                <a:latin typeface="Times New Roman"/>
              </a:rPr>
              <a:t>07/30/26</a:t>
            </a:fld>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959F42-9C4E-419C-BE00-E7CAD950698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4"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6"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07"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8"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9"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F364E4-A0D8-4B8A-8859-CB1BD946BAFF}" type="datetime">
              <a:rPr b="0" lang="en-US" sz="1200" spc="-1" strike="noStrike">
                <a:solidFill>
                  <a:srgbClr val="575f6d"/>
                </a:solidFill>
                <a:latin typeface="Times New Roman"/>
              </a:rPr>
              <a:t>07/30/26</a:t>
            </a:fld>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A11CE2-8C19-4C16-9462-7138B5EFA46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hyperlink" Target="http://blogs.ubc.ca/polarisdotca/astrolabs/extrasolar-planets/" TargetMode="External"/><Relationship Id="rId2" Type="http://schemas.openxmlformats.org/officeDocument/2006/relationships/hyperlink" Target="http://rickrutland.wikispaces.com/" TargetMode="External"/><Relationship Id="rId3" Type="http://schemas.openxmlformats.org/officeDocument/2006/relationships/hyperlink" Target="http://www.vernier.com/experiments/" TargetMode="External"/><Relationship Id="rId4"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839880" y="132048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575f6d"/>
                </a:solidFill>
                <a:latin typeface="Century Schoolbook"/>
              </a:rPr>
              <a:t>WHAT’S OUT THERE?</a:t>
            </a:r>
            <a:endParaRPr b="0" lang="en-US" sz="5400" spc="-1" strike="noStrike">
              <a:solidFill>
                <a:srgbClr val="575f6d"/>
              </a:solidFill>
              <a:latin typeface="Century Schoolbook"/>
            </a:endParaRPr>
          </a:p>
        </p:txBody>
      </p:sp>
      <p:sp>
        <p:nvSpPr>
          <p:cNvPr id="352" name="PlaceHolder 2"/>
          <p:cNvSpPr>
            <a:spLocks noGrp="1"/>
          </p:cNvSpPr>
          <p:nvPr>
            <p:ph type="subTitle"/>
          </p:nvPr>
        </p:nvSpPr>
        <p:spPr>
          <a:xfrm>
            <a:off x="1371600" y="3452760"/>
            <a:ext cx="6400800" cy="1752480"/>
          </a:xfrm>
          <a:prstGeom prst="rect">
            <a:avLst/>
          </a:prstGeom>
          <a:noFill/>
          <a:ln w="0">
            <a:noFill/>
          </a:ln>
        </p:spPr>
        <p:txBody>
          <a:bodyPr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575f6d"/>
                </a:solidFill>
                <a:latin typeface="Century Schoolbook"/>
              </a:rPr>
              <a:t>Detecting Extrasolar Planets</a:t>
            </a:r>
            <a:endParaRPr b="0" lang="en-US" sz="3100" spc="-1" strike="noStrike">
              <a:solidFill>
                <a:srgbClr val="000000"/>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f6d"/>
                </a:solidFill>
                <a:latin typeface="Century Schoolbook"/>
              </a:rPr>
              <a:t>                      </a:t>
            </a:r>
            <a:r>
              <a:rPr b="1" lang="en-US" sz="2400" spc="-1" strike="noStrike">
                <a:solidFill>
                  <a:srgbClr val="575f6d"/>
                </a:solidFill>
                <a:latin typeface="Century Schoolbook"/>
              </a:rPr>
              <a:t>Rick Rutland</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6840" y="236520"/>
            <a:ext cx="7467480" cy="690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SIZE OF THE PLANET CAN BE ESTIMATED</a:t>
            </a:r>
            <a:endParaRPr b="0" lang="en-US" sz="3000" spc="-1" strike="noStrike">
              <a:solidFill>
                <a:srgbClr val="575f6d"/>
              </a:solidFill>
              <a:latin typeface="Century Schoolbook"/>
            </a:endParaRPr>
          </a:p>
        </p:txBody>
      </p:sp>
      <p:sp>
        <p:nvSpPr>
          <p:cNvPr id="375" name=""/>
          <p:cNvSpPr txBox="1"/>
          <p:nvPr/>
        </p:nvSpPr>
        <p:spPr>
          <a:xfrm>
            <a:off x="456840" y="1023840"/>
            <a:ext cx="746748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376" name="Picture 3" descr=""/>
          <p:cNvPicPr/>
          <p:nvPr/>
        </p:nvPicPr>
        <p:blipFill>
          <a:blip r:embed="rId1"/>
          <a:stretch/>
        </p:blipFill>
        <p:spPr>
          <a:xfrm>
            <a:off x="3606840" y="1270080"/>
            <a:ext cx="1900080" cy="2203200"/>
          </a:xfrm>
          <a:prstGeom prst="rect">
            <a:avLst/>
          </a:prstGeom>
          <a:ln w="0">
            <a:noFill/>
          </a:ln>
        </p:spPr>
      </p:pic>
      <p:pic>
        <p:nvPicPr>
          <p:cNvPr id="377" name="Picture 4" descr=""/>
          <p:cNvPicPr/>
          <p:nvPr/>
        </p:nvPicPr>
        <p:blipFill>
          <a:blip r:embed="rId2"/>
          <a:stretch/>
        </p:blipFill>
        <p:spPr>
          <a:xfrm>
            <a:off x="271440" y="3848040"/>
            <a:ext cx="8397720" cy="1581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
          <p:cNvSpPr txBox="1"/>
          <p:nvPr/>
        </p:nvSpPr>
        <p:spPr>
          <a:xfrm>
            <a:off x="457200" y="659880"/>
            <a:ext cx="8229600" cy="546588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Schoolbook"/>
              </a:rPr>
              <a:t>The first transiting extrasolar planet was found orbiting a star named HD 209458 in the Pegasus constellation (150 light years away). The data was collected by the MOST space telescope. HD 209458 is about the same size as our sun, with a diameter of 1,400,000 km.</a:t>
            </a:r>
            <a:endParaRPr b="0" lang="en-US" sz="4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SOURCES</a:t>
            </a:r>
            <a:endParaRPr b="0" lang="en-US" sz="3000" spc="-1" strike="noStrike">
              <a:solidFill>
                <a:srgbClr val="575f6d"/>
              </a:solidFill>
              <a:latin typeface="Century Schoolbook"/>
            </a:endParaRPr>
          </a:p>
        </p:txBody>
      </p:sp>
      <p:sp>
        <p:nvSpPr>
          <p:cNvPr id="380" name=""/>
          <p:cNvSpPr txBox="1"/>
          <p:nvPr/>
        </p:nvSpPr>
        <p:spPr>
          <a:xfrm>
            <a:off x="456840" y="1600200"/>
            <a:ext cx="746748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d2611c"/>
                </a:solidFill>
                <a:uFillTx/>
                <a:latin typeface="Century Schoolbook"/>
                <a:hlinkClick r:id="rId1"/>
              </a:rPr>
              <a:t>http://blogs.ubc.ca/polarisdotca/astrolabs/extrasolar-planet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s presentation available a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d2611c"/>
                </a:solidFill>
                <a:uFillTx/>
                <a:latin typeface="Century Schoolbook"/>
                <a:hlinkClick r:id="rId2"/>
              </a:rPr>
              <a:t>http://rickrutland.wikispaces.com</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Vernier handouts available a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d2611c"/>
                </a:solidFill>
                <a:uFillTx/>
                <a:latin typeface="Century Schoolbook"/>
                <a:hlinkClick r:id="rId3"/>
              </a:rPr>
              <a:t>http://www.vernier.com/experiment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txBox="1"/>
          <p:nvPr/>
        </p:nvSpPr>
        <p:spPr>
          <a:xfrm>
            <a:off x="457200" y="667800"/>
            <a:ext cx="8229600" cy="452628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One way of detecting extrasolar planets is called the transit method. </a:t>
            </a:r>
            <a:endParaRPr b="0" lang="en-US" sz="34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A transit is when the planet passes in front of the star. How do you think this might work? What would it look like?</a:t>
            </a:r>
            <a:endParaRPr b="0" lang="en-US" sz="34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Draw a sketch of your prediction.</a:t>
            </a:r>
            <a:endParaRPr b="0" lang="en-US" sz="3400" spc="-1" strike="noStrike">
              <a:solidFill>
                <a:srgbClr val="000000"/>
              </a:solidFill>
              <a:latin typeface="Century Schoolbook"/>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IS THIS WHAT YOU THOUGHT?</a:t>
            </a:r>
            <a:endParaRPr b="0" lang="en-US" sz="3000" spc="-1" strike="noStrike">
              <a:solidFill>
                <a:srgbClr val="575f6d"/>
              </a:solidFill>
              <a:latin typeface="Century Schoolbook"/>
            </a:endParaRPr>
          </a:p>
        </p:txBody>
      </p:sp>
      <p:pic>
        <p:nvPicPr>
          <p:cNvPr id="355" name="Content Placeholder 3" descr="Transit-1024x762.jpg"/>
          <p:cNvPicPr/>
          <p:nvPr/>
        </p:nvPicPr>
        <p:blipFill>
          <a:blip r:embed="rId1"/>
          <a:srcRect l="-7005" t="0" r="-7005" b="0"/>
          <a:stretch/>
        </p:blipFill>
        <p:spPr>
          <a:xfrm>
            <a:off x="457200" y="1600200"/>
            <a:ext cx="7467480" cy="4873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
          <p:cNvSpPr txBox="1"/>
          <p:nvPr/>
        </p:nvSpPr>
        <p:spPr>
          <a:xfrm>
            <a:off x="457200" y="888480"/>
            <a:ext cx="8229600" cy="45262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entury Schoolbook"/>
              </a:rPr>
              <a:t>In reality, the stars are usually so far away that scientists do not ever see the actual star.</a:t>
            </a:r>
            <a:endParaRPr b="0" lang="en-US" sz="37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entury Schoolbook"/>
              </a:rPr>
              <a:t>They use instruments to take measurements of the star. Indirect evidence is used to locate planets.</a:t>
            </a:r>
            <a:endParaRPr b="0" lang="en-US" sz="37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0" lang="en-US" sz="2700" spc="-1" strike="noStrike">
                <a:solidFill>
                  <a:srgbClr val="575f6d"/>
                </a:solidFill>
                <a:latin typeface="Century Schoolbook"/>
              </a:rPr>
              <a:t>SCIENTISTS LOOK AT THE CHANGE IN BRIGHTNESS OF THE STAR AS A PLANET PASSES IN FRONT.</a:t>
            </a:r>
            <a:endParaRPr b="0" lang="en-US" sz="2700" spc="-1" strike="noStrike">
              <a:solidFill>
                <a:srgbClr val="575f6d"/>
              </a:solidFill>
              <a:latin typeface="Century Schoolbook"/>
            </a:endParaRPr>
          </a:p>
        </p:txBody>
      </p:sp>
      <p:pic>
        <p:nvPicPr>
          <p:cNvPr id="358" name="Content Placeholder 3" descr="20130108_Planetary_transit_f840.jpg"/>
          <p:cNvPicPr/>
          <p:nvPr/>
        </p:nvPicPr>
        <p:blipFill>
          <a:blip r:embed="rId1"/>
          <a:srcRect l="0" t="-4668" r="0" b="-4668"/>
          <a:stretch/>
        </p:blipFill>
        <p:spPr>
          <a:xfrm>
            <a:off x="457200" y="1600200"/>
            <a:ext cx="7467480" cy="4873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819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TWO FACTORS CAN GIVE US A GOOD APPROXIMATION… </a:t>
            </a:r>
            <a:br>
              <a:rPr sz="3000"/>
            </a:br>
            <a:r>
              <a:rPr b="0" lang="en-US" sz="3000" spc="-1" strike="noStrike">
                <a:solidFill>
                  <a:srgbClr val="575f6d"/>
                </a:solidFill>
                <a:latin typeface="Century Schoolbook"/>
              </a:rPr>
              <a:t>THE SCIENCE IS COMPLEX </a:t>
            </a:r>
            <a:endParaRPr b="0" lang="en-US" sz="3000" spc="-1" strike="noStrike">
              <a:solidFill>
                <a:srgbClr val="575f6d"/>
              </a:solidFill>
              <a:latin typeface="Century Schoolbook"/>
            </a:endParaRPr>
          </a:p>
        </p:txBody>
      </p:sp>
      <p:sp>
        <p:nvSpPr>
          <p:cNvPr id="360" name=""/>
          <p:cNvSpPr txBox="1"/>
          <p:nvPr/>
        </p:nvSpPr>
        <p:spPr>
          <a:xfrm>
            <a:off x="457200" y="2604960"/>
            <a:ext cx="8229600" cy="343872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 diameter of the planet compared to the diameter of the sta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 orbital period of the planet (how long it takes to orbit the star).</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OMPARE THE DATA FOR THE TWO PLANETS. WHAT MIGHT CAUSE THIS?</a:t>
            </a:r>
            <a:endParaRPr b="0" lang="en-US" sz="3000" spc="-1" strike="noStrike">
              <a:solidFill>
                <a:srgbClr val="575f6d"/>
              </a:solidFill>
              <a:latin typeface="Century Schoolbook"/>
            </a:endParaRPr>
          </a:p>
        </p:txBody>
      </p:sp>
      <p:sp>
        <p:nvSpPr>
          <p:cNvPr id="362"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363" name="Picture 3" descr=""/>
          <p:cNvPicPr/>
          <p:nvPr/>
        </p:nvPicPr>
        <p:blipFill>
          <a:blip r:embed="rId1"/>
          <a:stretch/>
        </p:blipFill>
        <p:spPr>
          <a:xfrm>
            <a:off x="1847880" y="2165400"/>
            <a:ext cx="5321160" cy="1847880"/>
          </a:xfrm>
          <a:prstGeom prst="rect">
            <a:avLst/>
          </a:prstGeom>
          <a:ln w="0">
            <a:noFill/>
          </a:ln>
        </p:spPr>
      </p:pic>
      <p:pic>
        <p:nvPicPr>
          <p:cNvPr id="364" name="Picture 4" descr=""/>
          <p:cNvPicPr/>
          <p:nvPr/>
        </p:nvPicPr>
        <p:blipFill>
          <a:blip r:embed="rId2"/>
          <a:stretch/>
        </p:blipFill>
        <p:spPr>
          <a:xfrm>
            <a:off x="1973160" y="4013280"/>
            <a:ext cx="5079960" cy="2011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OMPARE THE DATA FOR THE TWO PLANETS. WHAT MIGHT CAUSE THIS?</a:t>
            </a:r>
            <a:endParaRPr b="0" lang="en-US" sz="3000" spc="-1" strike="noStrike">
              <a:solidFill>
                <a:srgbClr val="575f6d"/>
              </a:solidFill>
              <a:latin typeface="Century Schoolbook"/>
            </a:endParaRPr>
          </a:p>
        </p:txBody>
      </p:sp>
      <p:sp>
        <p:nvSpPr>
          <p:cNvPr id="366" name=""/>
          <p:cNvSpPr txBox="1"/>
          <p:nvPr/>
        </p:nvSpPr>
        <p:spPr>
          <a:xfrm>
            <a:off x="456840" y="1600200"/>
            <a:ext cx="746748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367" name="Picture 3" descr=""/>
          <p:cNvPicPr/>
          <p:nvPr/>
        </p:nvPicPr>
        <p:blipFill>
          <a:blip r:embed="rId1"/>
          <a:stretch/>
        </p:blipFill>
        <p:spPr>
          <a:xfrm>
            <a:off x="1866960" y="2011320"/>
            <a:ext cx="5210280" cy="1946160"/>
          </a:xfrm>
          <a:prstGeom prst="rect">
            <a:avLst/>
          </a:prstGeom>
          <a:ln w="0">
            <a:noFill/>
          </a:ln>
        </p:spPr>
      </p:pic>
      <p:pic>
        <p:nvPicPr>
          <p:cNvPr id="368" name="Picture 4" descr=""/>
          <p:cNvPicPr/>
          <p:nvPr/>
        </p:nvPicPr>
        <p:blipFill>
          <a:blip r:embed="rId2"/>
          <a:stretch/>
        </p:blipFill>
        <p:spPr>
          <a:xfrm>
            <a:off x="1884240" y="4041720"/>
            <a:ext cx="5181840" cy="1947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THIS STAR HAS TWO TRANSITING EXTRASOLAR PLANETS. </a:t>
            </a:r>
            <a:endParaRPr b="0" lang="en-US" sz="3000" spc="-1" strike="noStrike">
              <a:solidFill>
                <a:srgbClr val="575f6d"/>
              </a:solidFill>
              <a:latin typeface="Century Schoolbook"/>
            </a:endParaRPr>
          </a:p>
        </p:txBody>
      </p:sp>
      <p:sp>
        <p:nvSpPr>
          <p:cNvPr id="370" name=""/>
          <p:cNvSpPr txBox="1"/>
          <p:nvPr/>
        </p:nvSpPr>
        <p:spPr>
          <a:xfrm>
            <a:off x="456840" y="1600200"/>
            <a:ext cx="746748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371" name="Picture 3" descr=""/>
          <p:cNvPicPr/>
          <p:nvPr/>
        </p:nvPicPr>
        <p:blipFill>
          <a:blip r:embed="rId1"/>
          <a:stretch/>
        </p:blipFill>
        <p:spPr>
          <a:xfrm>
            <a:off x="246240" y="1417680"/>
            <a:ext cx="5014800" cy="2651040"/>
          </a:xfrm>
          <a:prstGeom prst="rect">
            <a:avLst/>
          </a:prstGeom>
          <a:ln w="0">
            <a:noFill/>
          </a:ln>
        </p:spPr>
      </p:pic>
      <p:pic>
        <p:nvPicPr>
          <p:cNvPr id="372" name="Picture 4" descr=""/>
          <p:cNvPicPr/>
          <p:nvPr/>
        </p:nvPicPr>
        <p:blipFill>
          <a:blip r:embed="rId2"/>
          <a:stretch/>
        </p:blipFill>
        <p:spPr>
          <a:xfrm>
            <a:off x="4294080" y="3751200"/>
            <a:ext cx="4608720" cy="2595600"/>
          </a:xfrm>
          <a:prstGeom prst="rect">
            <a:avLst/>
          </a:prstGeom>
          <a:ln w="0">
            <a:noFill/>
          </a:ln>
        </p:spPr>
      </p:pic>
      <p:sp>
        <p:nvSpPr>
          <p:cNvPr id="373" name="TextBox 5"/>
          <p:cNvSpPr/>
          <p:nvPr/>
        </p:nvSpPr>
        <p:spPr>
          <a:xfrm>
            <a:off x="990720" y="4689360"/>
            <a:ext cx="2805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Which choice fits each plane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2-26T03:06:21Z</dcterms:created>
  <dc:creator>Rick Rutland</dc:creator>
  <dc:description/>
  <dc:language>en-US</dc:language>
  <cp:lastModifiedBy>Rick Rutland</cp:lastModifiedBy>
  <dcterms:modified xsi:type="dcterms:W3CDTF">2016-02-26T18:02:12Z</dcterms:modified>
  <cp:revision>29</cp:revision>
  <dc:subject/>
  <dc:title>What’s Out There?</dc:title>
</cp:coreProperties>
</file>